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6208-E32B-4CF3-B8F6-45F068FF9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11FF-91A9-46C4-A589-12B88525A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6D36-4DEB-4B2B-8A60-447DA5897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07D3-3173-4402-9CA7-311798830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E433-2F1A-4125-AA5A-4165ED007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6E23-8BAB-423E-BCD7-3798622E1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7CDA-C99C-48F5-8A21-87D323B09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98CC-E755-4CBF-AB58-F36151310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DCC1-F8C5-45D7-AE80-CA15B9FA8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691B-13FC-44DE-8CA3-ECD044D5B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DA9A-33FF-435F-9952-CA567444D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8DAA-4259-4990-B5B4-3BFDEEED0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FD07-D0C0-4106-BD8D-A461E6D94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BFA5-F8BC-49AE-B9EA-3B8EBF331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3047-4C18-477E-A435-577A71102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C0CA-3704-4D74-A28D-56BBFA7A8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17F2-138F-40AB-A0C8-51729A00E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D180-F2C7-496D-BF1C-3F3BB7461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93CD-175A-49A1-B276-53C1555E8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4D5E-286A-4C1F-8399-2765725F3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8261-9780-4CC5-BA45-15A9BA04E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0310-AC26-4918-B936-6DF0C1268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C0EC-6787-4EDE-B421-F23E7E875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34F2-5B8C-43B1-8FF3-2128BDFE2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49AC-7406-40C4-BC08-2B1265306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871-4A2E-4063-A513-FE1EA15F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80D-EC06-4727-B8FE-E4773DBF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73E-E843-4FF6-9B5B-96AB6DC6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0FD-DCCA-44FD-8DD4-14523976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C6A-BFEC-4F85-B194-6860BD53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387D-788D-47C8-9CB8-96730BB0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FF6E-C690-45E2-B367-0DBB4F3D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DC1-4413-4F14-B818-94B8170D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FB8-B5CE-4A6C-B2AD-AB0E7F34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C67-B0CF-4AEF-A28B-84DC3011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1E28-E2DC-4F4F-BFBA-82057E29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CAE3-1967-4B12-BB60-409E3FC2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C145-7255-42DE-B0B1-57D300D4F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E6BE-FD23-471A-AC8E-1149F559C8A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ХЕМОСТАЗА У ОРАЛНОЈ ХИРУРГИЈИ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5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1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Нормална хемостаза, крварење, вештачка хемостаза, обољења са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хеморагијским синдро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24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D9B8-0A38-4127-A507-2343931912D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зроци крваре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57200" y="1407960"/>
            <a:ext cx="8145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ци крварења могу да се поделе на опште и локал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ПШТИ УЗРОЦИ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последица обољења који се једним именом називају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хеморагијски синд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ремећаји могу да се одразе на све три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о су оштећени зидови крвног суда  ( дијабетес, хеморагијска телеангиектазија ) продужена је прва васкуларна ф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омбоцитопенија, тромбоцитостенија и антиагрегациона терапијаимају последице на другу фазу хемост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фицит или недостатак неког фактора коагулације ( хемофилија А) изазива поремећај коагулацијске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5174-2400-413A-B535-AAB6E6D93B4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зроци крваре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93560" y="1986120"/>
            <a:ext cx="8145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ЛОКАЛНИ УЗРОК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рварења је повреда крвних судова и кости богатој крвним судо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бог тога је атрауматски рад, по основним принципима хируршког рада, најбоља превенција интраоперативног и постоперативног крвар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лог за секундарно крварење може да буде фибринолиза формираног коагулума.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ипови крваре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5312-592A-44CA-B76F-BD1D0CF1D86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469800" y="1781280"/>
            <a:ext cx="8120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K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варења се деле према: узроку настанка, месту где се крв излива, крвним судовима из којих се излива, времену настанка, јачини, току и механизму наста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к – најчешће трауматски и патолошка крвар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сто – спољашње крварење и унутрашња крвар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се крв излива и локализује у поткожном и подслузокожном ткиву клинички се манифестује као: петехије,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кхимозе, вабицес или хема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ипови крваре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0" y="6424560"/>
            <a:ext cx="4003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6D80-132E-4A74-B700-225B9AB11F3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57200" y="1792440"/>
            <a:ext cx="8182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дносу на повређени крвни суд крварења могу би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ртеријска, венска, капиларна и паренхиматоз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реме настанка – примарна крварења, секундарна крвар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зам настанка – због промена на крвном суду (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er rhexin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бог дејства механичке силе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er diaresin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због патолошких промена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er diabrosin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бог патолошке пропустљивости неповређених крвних судова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er diapedesin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рварења у стоматоло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0" y="6424560"/>
            <a:ext cx="4073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B760-ACD9-455C-93DE-76F73991280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57200" y="1503360"/>
            <a:ext cx="8229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 посебног интереса за стоматологију су крварења која се јављају у току вађења зуба и орално-хируршких интервенција, као и после њ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току рада у устима, најчешће су изложене повредама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palatina major, a. alveolaris inferior et a. lingual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ма извору, постекстракциона крварења се деле 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ингив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шт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одонт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рварења у стоматоло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0" y="6424560"/>
            <a:ext cx="3824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49C4-BC21-4483-A354-24558192B37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57200" y="1973160"/>
            <a:ext cx="8182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Гингивалн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крварења се карактеришу слабим интезитетом, али могу да буду дуготрајна. Посебно су учестала и интезивна из инфламиране гинги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 тог разлога се хируршке интервенције избегавају у фази акутног запаљења гинги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оштан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крварења настају отварањем нутритивних крвних судова у коштаним каналић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иодонталн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крварења су интезивна и чешће се јављају из периодонцијума бочних, вишекорених зу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1971-DD33-4FFA-86E0-CCECD24E887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480960" y="1852560"/>
            <a:ext cx="8169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куп мера и поступака које предузима лекар, односно хирург, у циљу заустављања крварења назива се вештачка или артефицијална хемост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тоди за дефинитивну хемостазу, у основи, деле се на механичке, хемијске, биолошке и физич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0" y="6424560"/>
            <a:ext cx="4073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0036-3782-46A4-A061-67D711AC355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504720" y="1841400"/>
            <a:ext cx="8085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МЕХАНИЧКИ МЕТОДИ ХЕМОС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Дигитална компре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дразумева притисак прстима на крвни с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labialis inferior et superior, a. facialis. a. dorsalis nasi, a. supraorbitalis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C:\Users\Zoran\Downloads\oralna hirurgija\slike\imagesmj.jpg"/>
          <p:cNvPicPr/>
          <p:nvPr/>
        </p:nvPicPr>
        <p:blipFill>
          <a:blip r:embed="rId1"/>
          <a:stretch/>
        </p:blipFill>
        <p:spPr>
          <a:xfrm>
            <a:off x="2662200" y="3949560"/>
            <a:ext cx="39657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0" y="6424560"/>
            <a:ext cx="3713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4F1E-2B34-4835-9270-4F4321FBA59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480960" y="1792440"/>
            <a:ext cx="810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овршна тамп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ј метод се рутински користи у свакодневној стоматолошкој пракси после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C:\Users\Zoran\Downloads\oralna hirurgija\slike\download (15).jpg"/>
          <p:cNvPicPr/>
          <p:nvPr/>
        </p:nvPicPr>
        <p:blipFill>
          <a:blip r:embed="rId1"/>
          <a:stretch/>
        </p:blipFill>
        <p:spPr>
          <a:xfrm>
            <a:off x="2408400" y="3462480"/>
            <a:ext cx="414324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2CAF-90CA-42F7-B68E-2BE370D2B44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493560" y="1697040"/>
            <a:ext cx="815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Дубока тамп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C:\Users\Zoran\Downloads\oralna hirurgija\slike\imagesfgggfd.jpg"/>
          <p:cNvPicPr/>
          <p:nvPr/>
        </p:nvPicPr>
        <p:blipFill>
          <a:blip r:embed="rId1"/>
          <a:stretch/>
        </p:blipFill>
        <p:spPr>
          <a:xfrm>
            <a:off x="2446200" y="2590920"/>
            <a:ext cx="4130640" cy="32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A2D6-9FE2-47B8-BD36-0639D6C2F4E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493560" y="1768320"/>
            <a:ext cx="8096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куп процеса које регулишу непропустљивост и затварање повређеног крвног суда назива се хемост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здравом организму постоји равнотежа између два стално присутна  и активна антагонистичка механизма –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оагулације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ибринолизе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зам хемостазе подразумева очување свих елемената и фактора хемостазе у квантитативном и квалитативном смис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крвне судове, тромбоците и факторе коагулациј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ремећај било ког од наведених фактора доводи до продуженог крварења из крвних суд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2B7D-18A7-45C0-9CCC-4F706EAD0AC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469800" y="1757520"/>
            <a:ext cx="815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Лигатура крвног 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C:\Users\Zoran\Downloads\oralna hirurgija\slike\imagesfrt.jpg"/>
          <p:cNvPicPr/>
          <p:nvPr/>
        </p:nvPicPr>
        <p:blipFill>
          <a:blip r:embed="rId1"/>
          <a:stretch/>
        </p:blipFill>
        <p:spPr>
          <a:xfrm>
            <a:off x="1982880" y="2543040"/>
            <a:ext cx="4049640" cy="29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77C6-290A-4E5F-A671-12970582BBA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469800" y="1816200"/>
            <a:ext cx="815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A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рилатна и штенц-пло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C:\Users\Zoran\Downloads\oralna hirurgija\slike\images34.jpg"/>
          <p:cNvPicPr/>
          <p:nvPr/>
        </p:nvPicPr>
        <p:blipFill>
          <a:blip r:embed="rId1"/>
          <a:stretch/>
        </p:blipFill>
        <p:spPr>
          <a:xfrm>
            <a:off x="1663560" y="3164040"/>
            <a:ext cx="572148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FD91-F331-4027-8051-431974C5FDE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480960" y="1647720"/>
            <a:ext cx="813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ХЕМИЈСКИ МЕТОДИ ХЕМОС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ристе хемијска једињења која имају особине да позитивно утичу на процес хемост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зам дејства може бити различит, односно могу деловати на било коју фазу хемост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ма дејству и начину апликације хемијски хемостатици деле се на опште и локал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986A-47BF-4A60-AEDA-B95E4F6C43E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433440" y="1792440"/>
            <a:ext cx="8145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НИ ХЕМИЈСКИ ХЕМОСТА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аустична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агулишу беланчевине када дођу у контакт са њ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главном се користе за крварење са рањавих површина на слузокожи и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 ове групе хемостатика најчешће се примењују 3% хидрог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2% калијум-перманганат и 30-50% фери-хло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0" y="6424560"/>
            <a:ext cx="426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DC6B-1DD3-45B9-9525-C7CD3FD9522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82160"/>
            <a:ext cx="87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444600" y="1708200"/>
            <a:ext cx="8097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Вазоконстри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тичу на прву фазу хемостазе, изазивајући грчење крвног 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Њихово дејство је пролазног карактера, па се могу сматрати средствима за привремену хемоста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ристе се најчешће у току операције ради постизања боље преглед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CA07-AEE1-4F10-B898-B510109DB1C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525600" y="1812960"/>
            <a:ext cx="8121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Цинк – окс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ма благо каустичан и механички компресивни ефек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акође цинк-оксид делује и благо анестетички и антисепти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изводи се у облику праха којји се меша са еугенолом или уљем каранфилића. ( нобетец, перипак, коепак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C:\Users\Zoran\Downloads\oralna hirurgija\slike\imagesmkmkmkm.jpg"/>
          <p:cNvPicPr/>
          <p:nvPr/>
        </p:nvPicPr>
        <p:blipFill>
          <a:blip r:embed="rId1"/>
          <a:stretch/>
        </p:blipFill>
        <p:spPr>
          <a:xfrm>
            <a:off x="206280" y="4470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C:\Users\Zoran\Downloads\oralna hirurgija\slike\imagesvpol.jpg"/>
          <p:cNvPicPr/>
          <p:nvPr/>
        </p:nvPicPr>
        <p:blipFill>
          <a:blip r:embed="rId2"/>
          <a:stretch/>
        </p:blipFill>
        <p:spPr>
          <a:xfrm>
            <a:off x="2417760" y="440064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C:\Users\Zoran\Downloads\oralna hirurgija\slike\imageszuzuuzz.jpg"/>
          <p:cNvPicPr/>
          <p:nvPr/>
        </p:nvPicPr>
        <p:blipFill>
          <a:blip r:embed="rId3"/>
          <a:srcRect l="-1629" t="38787" r="0" b="0"/>
          <a:stretch/>
        </p:blipFill>
        <p:spPr>
          <a:xfrm>
            <a:off x="5738760" y="4427640"/>
            <a:ext cx="316728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5D97-771C-481E-ABBB-17737CEAB1B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493560" y="1876320"/>
            <a:ext cx="8096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Желатински препа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нцип њиховог дејства заснива се на особини да упијају крвну плазму и тромбоците. На тај начин делују позитивно на фазу коагулације кр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руги веома важан ефекат ових препарата је подстицање бољег зарастања рана. Период ресорбције ових препарата је 4-5 недеља.( гелатамп, геласпон, геластип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C:\Users\Zoran\Downloads\oralna hirurgija\slike\imagesmknb.jpg"/>
          <p:cNvPicPr/>
          <p:nvPr/>
        </p:nvPicPr>
        <p:blipFill>
          <a:blip r:embed="rId1"/>
          <a:stretch/>
        </p:blipFill>
        <p:spPr>
          <a:xfrm>
            <a:off x="1781280" y="439884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C:\Users\Zoran\Downloads\oralna hirurgija\slike\imagesfdrew.jpg"/>
          <p:cNvPicPr/>
          <p:nvPr/>
        </p:nvPicPr>
        <p:blipFill>
          <a:blip r:embed="rId2"/>
          <a:stretch/>
        </p:blipFill>
        <p:spPr>
          <a:xfrm>
            <a:off x="5818320" y="4240080"/>
            <a:ext cx="1609560" cy="19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C384-2281-44AE-9E90-A5A8E89B773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469800" y="1816200"/>
            <a:ext cx="8156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орбацел – г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по хемијској структури калцијумом оксидисана полиглукуронска кисе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лује тако што образује велику површину на којој се лако формира фибринска мрежа и коагул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C:\Users\Zoran\Downloads\oralna hirurgija\slike\imagesgaxa.jpg"/>
          <p:cNvPicPr/>
          <p:nvPr/>
        </p:nvPicPr>
        <p:blipFill>
          <a:blip r:embed="rId1"/>
          <a:stretch/>
        </p:blipFill>
        <p:spPr>
          <a:xfrm>
            <a:off x="919080" y="4203720"/>
            <a:ext cx="2733840" cy="1676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C:\Users\Zoran\Downloads\oralna hirurgija\slike\imagesjupoo.jpg"/>
          <p:cNvPicPr/>
          <p:nvPr/>
        </p:nvPicPr>
        <p:blipFill>
          <a:blip r:embed="rId2"/>
          <a:stretch/>
        </p:blipFill>
        <p:spPr>
          <a:xfrm>
            <a:off x="5595840" y="4334040"/>
            <a:ext cx="2476440" cy="184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787F-DCD7-4717-941F-7C6518F8872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469800" y="1731960"/>
            <a:ext cx="8156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ПШТИ ХЕМИЈСКИ ХЕМОСТА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 средства се примењују интравенски, интрамускуларно или перорал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зам дејства може бити усмерен на ремећење осмотских услова у организму, на пропустљивост крвних судова, повећано распадање тромбоцита и инхибицију процеса фибриноли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коро редовно се комбиновано користе са локалним мерама хемост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4068-ED03-444E-8D03-D01B20929D3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469800" y="1757520"/>
            <a:ext cx="8180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0,9% раствор натријум – хлор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ристи се за надокнаду волумена течности у орган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огућа је и примена хипертоничног раствора натријум-хлорида у концентрацији 5-6% и 40% раствора глукозе као општег хемоста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и раствори испољавају хемостатско дејство утицајем на тромбоците, повећањем њиховог распадања и утицајем на осмотске одно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81E3-D653-4F31-8965-6DCD5241F2B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93560" y="1876320"/>
            <a:ext cx="820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цес нормалне хемостазе подразумева три фа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Васкуларну ф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Тромбоцитну ф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азу коагулације кр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trm1s7_1.jpg"/>
          <p:cNvPicPr/>
          <p:nvPr/>
        </p:nvPicPr>
        <p:blipFill>
          <a:blip r:embed="rId1"/>
          <a:stretch/>
        </p:blipFill>
        <p:spPr>
          <a:xfrm>
            <a:off x="2482920" y="4238640"/>
            <a:ext cx="44290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CB25-087A-4C57-83B0-2DE143BFFA3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457200" y="1528920"/>
            <a:ext cx="818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алцијум-хлорид и калцијум-глуко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лују тако што слепљују крвне суд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нтифибринолитиц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( капрамол, циклокапрон и ПАМБ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ве су синтетске аминокиселине. Инхибишу процес претварања плазминогена у плаз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лметек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– повећава отпорност крвних суд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Дицинон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– побољшава адхезивност тромбоцита и смањује пропустљивост крвних суд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6BF3-2549-4B63-AC49-6AF14431FE0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469800" y="1684440"/>
            <a:ext cx="8145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Витамин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чествује у синтези протромбина у јет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фицит овог витамина имају болесници са оштећеном јет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мена витамина К је индикована у случајевима хипопротромбонемије или продуженог протромбинског вре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Ово се не односи на пацијенте који су на антикоагулантној терапији, тј. контраиндиковано је да се тим путем скраћује протромбинско вре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Витамин 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7BC0-9F9A-477E-88EA-38A8B03F578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504720" y="1731960"/>
            <a:ext cx="8121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БИОЛОШКИ МЕТОДИ ХЕМОС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ни биолошки хемоста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ибринска пена и тромб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продукти хумане крви и састоје се од фибрина и тромб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сорбују се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in situ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 Подложни су инфекц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Хемофиб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парат добијен из говеђе кр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чин апликације је као и код предходног пре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623D-5CA3-4FE9-B766-FAE5859D3E2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493560" y="2165400"/>
            <a:ext cx="8096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Tipostasin I Tissu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фибрински лепак. Састоји се из говеђег фибрина, апротинина и калцијум-хлорида. Прва два састојка се налазе у одвојеним бризгалицама и мешају се у тренутку аплик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ома је ефикасан у процесу вештачке хемост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Хемофил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Наследна 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Хемофилија А (недостатак 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VIII 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Хемофилија Б и Ц (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IX, XI 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37040" y="6505560"/>
            <a:ext cx="2895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F668-C7B4-4E30-BAFE-7175106390D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Von-Wilebrantova болест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Код оба пола, чешће код ж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дефицит 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VIII F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и поремећај функције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тромб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Palatino Linotype"/>
              </a:rPr>
              <a:t>Т</a:t>
            </a:r>
            <a:r>
              <a:rPr b="1" lang="sr-Latn-RS" sz="2400" spc="-1" strike="noStrike">
                <a:solidFill>
                  <a:srgbClr val="000000"/>
                </a:solidFill>
                <a:latin typeface="Palatino Linotype"/>
              </a:rPr>
              <a:t>h.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Преоперативна припрема давањем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концентрованог 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F VIII,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криопреципитата и ређе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свеже смрзнуте плаз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8E62-1E9F-46D0-B4B8-390153FD96A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ацијенти на антиагрегационој и  антикоагулантној терап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49280" y="181764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Не укидати ниједну од ове две врсте терапије јер то може витално угрозити пациј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За антикоагулантну терапију обавезно урадити вредност INR (нормална вредност износси око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8945-05DF-4A30-A651-DC1E41C47DA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ACF2-3623-4021-8F79-E8E7A8F3A44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469800" y="1781280"/>
            <a:ext cx="828828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ВАСКУЛАРНА Ф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мах након оштећења крвног суда , јављасе његова реакција ко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манифестује грчењем зида крвног 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мањих крвних судова се на овај начин потпуно затвара лум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рвног суда, док се код већих он суж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C:\Users\Zoran\Downloads\oralna hirurgija\slike\download (9).jpg"/>
          <p:cNvPicPr/>
          <p:nvPr/>
        </p:nvPicPr>
        <p:blipFill>
          <a:blip r:embed="rId1"/>
          <a:srcRect l="39526" t="8571" r="13558" b="54452"/>
          <a:stretch/>
        </p:blipFill>
        <p:spPr>
          <a:xfrm>
            <a:off x="3284640" y="4030560"/>
            <a:ext cx="24397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0" y="6424560"/>
            <a:ext cx="4141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2BBB-53B5-47F9-A344-B1603151888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93560" y="1865160"/>
            <a:ext cx="8169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2. ТРОМБОЦИТНА Ф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вој фази долази до нагомилавања тромбоцита на месту повреде крвног суда. На тај начин се формира примарни тромб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ли тром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о нагомилавање тромбоцита се назива агрега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кон ретракције тромба обезбеђено је потпуно затварање повређеног крвног 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C:\Users\Zoran\Downloads\oralna hirurgija\slike\download (9).jpg"/>
          <p:cNvPicPr/>
          <p:nvPr/>
        </p:nvPicPr>
        <p:blipFill>
          <a:blip r:embed="rId1"/>
          <a:srcRect l="39959" t="45971" r="14818" b="15132"/>
          <a:stretch/>
        </p:blipFill>
        <p:spPr>
          <a:xfrm>
            <a:off x="3513240" y="4307040"/>
            <a:ext cx="1850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C8DC-F576-408E-9460-2F8CE15F34B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57200" y="1684440"/>
            <a:ext cx="8217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3. КОАГУЛАЦИЈА КР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играва се у крвној плаз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ј процес је веома сложен и у њему учествује велики број протеина плазме који се називају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фактори коагулације.( 1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вој фази учествују и фактори пореклом из тромбоцита и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Четири фазе коагул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тивирање тромбопла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тварање протромбина у тромб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тварање фибриногена у фиб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тракција коагулума или фибрино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01A8-5E47-4344-91FA-AA02CC323DE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33440" y="1528920"/>
            <a:ext cx="83502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АЗА КОАГ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лази до активирања тромбопластина  ( крвни и ткивн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рвни тромбопластин се ослобађа из тромбоцита који се распадај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диру са површином оштећеног крвног 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вој фази се ослобађају и учествују фактор 3, 12, 11, 8, 9 и 5 у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суство јона калцијума. Коначан резултат је крвни тромбопла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 фаза коагулације траје 4-8 мин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натно бржа фаза је активација ткивног тромбопластина у 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чествују 7, 10 и 5 фак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DCDB-5975-4C57-B8BF-A4CAB937C31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57200" y="1697040"/>
            <a:ext cx="82058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2. Фаза коаг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тивни тромбопластин, у садејству јона калцијума, делује на неактивни протеин протромбин у плазми и претвара га у тромб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аза коаг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омбин разграђује молекуле фибриногена у активни фибр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тивирани фибрин се аутополимеризује у велике молекуле ко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раде  мрежу фибринских влакана. Ова мрежа постаје основ у којо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задржавају крвни елементи плазме формирајући крвни угруш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:\Users\Zoran\Downloads\oralna hirurgija\slike\download (8).jpg"/>
          <p:cNvPicPr/>
          <p:nvPr/>
        </p:nvPicPr>
        <p:blipFill>
          <a:blip r:embed="rId1"/>
          <a:srcRect l="0" t="0" r="775" b="21651"/>
          <a:stretch/>
        </p:blipFill>
        <p:spPr>
          <a:xfrm>
            <a:off x="431640" y="1746360"/>
            <a:ext cx="8380440" cy="45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194E-F6B6-4CC8-9D7A-5E70690F7D9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69800" y="1720800"/>
            <a:ext cx="8180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4. ФАЗА КОАГ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дразумева две врсте реакц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ви тип реакције  је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ретракција коагулума.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спадањем тромбоцита долази до ослобађања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тромбастенин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ји се контрахује и доводи до ретракције крвног угрушка и истискивања крвног сер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руги тип реакције је да под дејством фибринолитичког ензима плазмина формирана фибринска мрежа разгради. (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процес фибринолизе )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Korisnik</cp:lastModifiedBy>
  <dcterms:modified xsi:type="dcterms:W3CDTF">2019-09-09T16:02:11Z</dcterms:modified>
  <cp:revision>1194</cp:revision>
  <dc:subject/>
  <dc:title>NAZIV PREDAVANJA</dc:title>
</cp:coreProperties>
</file>